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902-FC79-4FA5-BDCA-EA690E65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4CC-3066-4614-ABE3-6E2B5B84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325-6A3F-4B7C-8E10-D09BE960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17A-92E2-4218-88BC-33DE4CA2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597-7829-4FF9-BB2C-91553E80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D70-48F5-492B-8F7F-9CD64FD7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D33-1D08-4B19-BD45-68E69CDF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0B4-36C1-4E4D-9E4E-B3CAF140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08F-1885-4C19-8500-F5407CFA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A4A-188E-48EE-933D-B0DFD8E0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1E0-91DA-480C-AE99-9B739F00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E1C-CD97-45A5-A4F1-9C773F7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D452-9965-4C97-8A9D-EAD99A4CA6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ieren 7"/>
          <p:cNvGrpSpPr/>
          <p:nvPr/>
        </p:nvGrpSpPr>
        <p:grpSpPr>
          <a:xfrm>
            <a:off x="900000" y="1311840"/>
            <a:ext cx="7259760" cy="2818800"/>
            <a:chOff x="900000" y="1311840"/>
            <a:chExt cx="7259760" cy="2818800"/>
          </a:xfrm>
        </p:grpSpPr>
        <p:sp>
          <p:nvSpPr>
            <p:cNvPr id="42" name="Text Box 5"/>
            <p:cNvSpPr/>
            <p:nvPr/>
          </p:nvSpPr>
          <p:spPr>
            <a:xfrm>
              <a:off x="900000" y="3213720"/>
              <a:ext cx="327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xes-parallel bounding box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in </a:t>
              </a: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intrinsic coordinate system</a:t>
              </a:r>
              <a:br>
                <a:rPr sz="1800"/>
              </a:b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(index coordinates in unit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1882440" y="1484280"/>
              <a:ext cx="1635120" cy="1635480"/>
            </a:xfrm>
            <a:prstGeom prst="cube">
              <a:avLst>
                <a:gd name="adj" fmla="val 24467"/>
              </a:avLst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7"/>
            <p:cNvSpPr/>
            <p:nvPr/>
          </p:nvSpPr>
          <p:spPr>
            <a:xfrm flipV="1">
              <a:off x="4114800" y="2349360"/>
              <a:ext cx="961920" cy="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AutoShape 9"/>
            <p:cNvSpPr/>
            <p:nvPr/>
          </p:nvSpPr>
          <p:spPr>
            <a:xfrm rot="834000">
              <a:off x="5673240" y="1484280"/>
              <a:ext cx="1635120" cy="1635480"/>
            </a:xfrm>
            <a:prstGeom prst="cube">
              <a:avLst>
                <a:gd name="adj" fmla="val 24467"/>
              </a:avLst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5014800" y="3200760"/>
              <a:ext cx="3144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Bounding box in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world coordinate system</a:t>
              </a:r>
              <a:br>
                <a:rPr sz="1800"/>
              </a:b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 (world coordinates in mm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2:58:31Z</dcterms:created>
  <dc:creator>Ivo Wolf</dc:creator>
  <dc:description/>
  <dc:language>en-US</dc:language>
  <cp:lastModifiedBy>Ivo Wolf</cp:lastModifiedBy>
  <dcterms:modified xsi:type="dcterms:W3CDTF">2008-07-16T13:07:29Z</dcterms:modified>
  <cp:revision>4</cp:revision>
  <dc:subject/>
  <dc:title>Folie 1</dc:title>
</cp:coreProperties>
</file>