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8F4-697A-4350-BFC1-78632D0D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E8D-8951-413A-9601-0E83917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929-8DF9-4E98-AD6E-D97ED634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D71-B43A-42F2-ABEF-D736AAAB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5D8-CAB5-4837-A6BE-EC7E44A9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BA9-5B71-4275-A131-4644A40D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E1C-5D44-45E8-A031-9769D5F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DAE-1045-419D-9168-7E2C024A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B30-5B22-4DD6-8CE4-72EA4F77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CCC-080F-4A77-BD45-964F68A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887-E731-46D7-A29F-4C70DDCA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CD-0DD6-4231-87C9-E7D4285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4D2C-445C-4BDB-A26E-4460FECBC0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7"/>
          <p:cNvGrpSpPr/>
          <p:nvPr/>
        </p:nvGrpSpPr>
        <p:grpSpPr>
          <a:xfrm>
            <a:off x="900000" y="1311840"/>
            <a:ext cx="7259760" cy="2818800"/>
            <a:chOff x="900000" y="1311840"/>
            <a:chExt cx="7259760" cy="2818800"/>
          </a:xfrm>
        </p:grpSpPr>
        <p:sp>
          <p:nvSpPr>
            <p:cNvPr id="42" name="Text Box 5"/>
            <p:cNvSpPr/>
            <p:nvPr/>
          </p:nvSpPr>
          <p:spPr>
            <a:xfrm>
              <a:off x="900000" y="32137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xes-parallel bounding box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intrinsic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(index coordinates in unit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8824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4114800" y="2349360"/>
              <a:ext cx="9619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AutoShape 9"/>
            <p:cNvSpPr/>
            <p:nvPr/>
          </p:nvSpPr>
          <p:spPr>
            <a:xfrm rot="834000">
              <a:off x="56732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5014800" y="3200760"/>
              <a:ext cx="314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ounding box in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world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 (world coordinates in mm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58:31Z</dcterms:created>
  <dc:creator>Ivo Wolf</dc:creator>
  <dc:description/>
  <dc:language>en-US</dc:language>
  <cp:lastModifiedBy>Ivo Wolf</cp:lastModifiedBy>
  <dcterms:modified xsi:type="dcterms:W3CDTF">2008-07-16T13:07:29Z</dcterms:modified>
  <cp:revision>4</cp:revision>
  <dc:subject/>
  <dc:title>Folie 1</dc:title>
</cp:coreProperties>
</file>