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B19-4B26-4D62-B15C-9A23A8F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B2D6-78C7-446A-8DE6-FC4E0AC8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C93-7F67-4CB2-B5EB-6FB582A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0FE-9303-46FF-B606-07525AB5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A43-C9EA-4A42-B0CB-D668C42E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318-D77C-48E7-AF90-3EDAF5BE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D35-B3AD-4E01-ABDE-CEF25D3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390-6954-449B-A092-3647F0A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86D-0539-4269-9E9B-D43F1AB5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687-F6A9-40FA-8751-558439A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2D0-C64C-4ABB-A7DE-92DFD52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111-C96E-415C-B56E-0242FD4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CFA-51B5-40F6-A1B9-1BD35AB00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7"/>
          <p:cNvGrpSpPr/>
          <p:nvPr/>
        </p:nvGrpSpPr>
        <p:grpSpPr>
          <a:xfrm>
            <a:off x="900000" y="1311840"/>
            <a:ext cx="7259760" cy="2818800"/>
            <a:chOff x="900000" y="1311840"/>
            <a:chExt cx="7259760" cy="2818800"/>
          </a:xfrm>
        </p:grpSpPr>
        <p:sp>
          <p:nvSpPr>
            <p:cNvPr id="42" name="Text Box 5"/>
            <p:cNvSpPr/>
            <p:nvPr/>
          </p:nvSpPr>
          <p:spPr>
            <a:xfrm>
              <a:off x="900000" y="32137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xes-parallel bounding box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intrinsic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(index coordinates in unit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8824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4114800" y="2349360"/>
              <a:ext cx="9619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AutoShape 9"/>
            <p:cNvSpPr/>
            <p:nvPr/>
          </p:nvSpPr>
          <p:spPr>
            <a:xfrm rot="834000">
              <a:off x="56732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5014800" y="3200760"/>
              <a:ext cx="314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ounding box in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world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 (world coordinates in mm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58:31Z</dcterms:created>
  <dc:creator>Ivo Wolf</dc:creator>
  <dc:description/>
  <dc:language>en-US</dc:language>
  <cp:lastModifiedBy>Ivo Wolf</cp:lastModifiedBy>
  <dcterms:modified xsi:type="dcterms:W3CDTF">2008-07-16T13:07:29Z</dcterms:modified>
  <cp:revision>4</cp:revision>
  <dc:subject/>
  <dc:title>Folie 1</dc:title>
</cp:coreProperties>
</file>