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7296-8E42-4965-A677-C531A99BE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C26D-707E-43EF-8F50-65B2E51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125D-9189-4BB7-8FBC-F6B326DFA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7A4-A957-4600-BA6B-CE0D97EC3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B7F1-8230-420C-87FC-8A3D5D272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A2C5-29BA-4126-ADB4-892C5B764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FE4-176C-4EF3-904B-121BE673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DD12-3D82-4FD2-90AE-EB0931DBB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4F41-E1D6-4EDD-B2C0-D9FC83113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951C-0111-43BE-BDAD-DD586AE5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F9B4-281A-40EC-837B-6B37F146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BB90-1F09-43AE-82F6-46C98ABB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AC003-B9A5-4B04-9CC3-A11B8D48796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uppieren 7"/>
          <p:cNvGrpSpPr/>
          <p:nvPr/>
        </p:nvGrpSpPr>
        <p:grpSpPr>
          <a:xfrm>
            <a:off x="900000" y="1311840"/>
            <a:ext cx="7259760" cy="2818800"/>
            <a:chOff x="900000" y="1311840"/>
            <a:chExt cx="7259760" cy="2818800"/>
          </a:xfrm>
        </p:grpSpPr>
        <p:sp>
          <p:nvSpPr>
            <p:cNvPr id="42" name="Text Box 5"/>
            <p:cNvSpPr/>
            <p:nvPr/>
          </p:nvSpPr>
          <p:spPr>
            <a:xfrm>
              <a:off x="900000" y="3213720"/>
              <a:ext cx="32767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xes-parallel bounding box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 in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intrinsic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(index coordinates in units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18824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Line 7"/>
            <p:cNvSpPr/>
            <p:nvPr/>
          </p:nvSpPr>
          <p:spPr>
            <a:xfrm flipV="1">
              <a:off x="4114800" y="2349360"/>
              <a:ext cx="961920" cy="6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AutoShape 9"/>
            <p:cNvSpPr/>
            <p:nvPr/>
          </p:nvSpPr>
          <p:spPr>
            <a:xfrm rot="834000">
              <a:off x="5673240" y="1484280"/>
              <a:ext cx="1635120" cy="1635480"/>
            </a:xfrm>
            <a:prstGeom prst="cube">
              <a:avLst>
                <a:gd name="adj" fmla="val 24467"/>
              </a:avLst>
            </a:prstGeom>
            <a:solidFill>
              <a:srgbClr val="bfbfb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" name="Text Box 10"/>
            <p:cNvSpPr/>
            <p:nvPr/>
          </p:nvSpPr>
          <p:spPr>
            <a:xfrm>
              <a:off x="5014800" y="3200760"/>
              <a:ext cx="31449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Bounding box in</a:t>
              </a:r>
              <a:br>
                <a:rPr sz="1800"/>
              </a:br>
              <a:r>
                <a:rPr b="0" sz="18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world coordinate system</a:t>
              </a:r>
              <a:br>
                <a:rPr sz="1800"/>
              </a:br>
              <a:r>
                <a:rPr b="0" i="1" sz="1800" spc="-1" strike="noStrike">
                  <a:solidFill>
                    <a:srgbClr val="000000"/>
                  </a:solidFill>
                  <a:latin typeface="Arial"/>
                </a:rPr>
                <a:t> (world coordinates in mm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58:31Z</dcterms:created>
  <dc:creator>Ivo Wolf</dc:creator>
  <dc:description/>
  <dc:language>en-US</dc:language>
  <cp:lastModifiedBy>Ivo Wolf</cp:lastModifiedBy>
  <dcterms:modified xsi:type="dcterms:W3CDTF">2008-07-16T13:07:29Z</dcterms:modified>
  <cp:revision>4</cp:revision>
  <dc:subject/>
  <dc:title>Folie 1</dc:title>
</cp:coreProperties>
</file>